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971-FCE6-4445-A9EA-1FD2D6C4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B6F-E177-46A0-8768-7DF5AB4E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697-09D9-4EF6-BD92-4BEE7E9C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D84-3727-47D6-A97A-A4CD7321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69E8-4B07-43D4-A241-2B7BF4CC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D285-D612-4763-A1F8-1204B627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5DF0-E75A-4C6A-9716-9AADF3E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F4EF-9CAE-4BAA-AA1C-25D0049F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C870-96B3-4578-BD4C-386B2830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44CF-837D-4B76-935B-7DE3A431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E7DF-DB20-4CBA-A7BC-A4166AB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B9D-D4C1-4D87-80A7-1761F5B1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EA49-3B55-4542-AFE8-77C2A24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3EA-31E3-446B-9FD8-DB7E92C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0E0-AF57-4A25-AE52-14FBD439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0D96-5E61-45DB-B8F4-1BA301E1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404F-CCBB-4592-8DD7-E11B4033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F33-FDF9-4300-9C0B-95846F4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71E-9D29-4C46-9541-33830D01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661-3BF6-414A-8291-24F2B9B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260-546B-443C-BCBE-528D5D4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2E2-9EAD-4341-8DE1-AB53FB6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48D-BE33-4C7A-B297-BD36D3A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B40-DB75-48B2-828E-DCEBD9C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CFC-DD8A-4A2A-A9EA-50E605794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A840-F909-47FE-A846-CA5F910730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Monday, December 6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 Work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W WS 5.1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uesday, December 7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Work: Find the midpoint between points (0,3) and (-2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 H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segment Theor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 Lesson 5.4, problems 3-18, 21,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Geometry 1</a:t>
            </a:r>
            <a:br>
              <a:rPr sz="5100"/>
            </a:br>
            <a:r>
              <a:rPr b="1" lang="en-US" sz="5100" spc="-1" strike="noStrike">
                <a:solidFill>
                  <a:srgbClr val="ffffb7"/>
                </a:solidFill>
                <a:latin typeface="Broadway"/>
              </a:rPr>
              <a:t> </a:t>
            </a:r>
            <a:r>
              <a:rPr b="1" lang="en-US" sz="3800" spc="-1" strike="noStrike">
                <a:solidFill>
                  <a:srgbClr val="ffffb7"/>
                </a:solidFill>
                <a:latin typeface="Broadway"/>
              </a:rPr>
              <a:t>Thursday, December 8, 2010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if three given lengths can create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etermine the minimum and maximum length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mpute angle measures of a triang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olve contextual situations involving angle/side length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ork:  Describe and draw an angle bis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qualities of one tri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5.5, Problems 2, 6-11, 17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Unit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2-09T17:19:14Z</dcterms:modified>
  <cp:revision>81</cp:revision>
  <dc:subject/>
  <dc:title>Slide 1</dc:title>
</cp:coreProperties>
</file>